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43A2A-CB9D-43E5-A29C-389D828A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43C71-3344-4C33-AC7A-05537E81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563E0-3ACF-4AE7-942C-4F0E718B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2A7FF-FD71-4E03-B8E0-39C441D4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DBD1-E242-4988-99D5-DF3D580C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0E6F-5513-4BFA-8050-9F148358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3371-8F77-470F-B9B1-16E95BF6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11D0-22A2-4AAC-89B7-50A4E922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305C-3719-454F-9BA6-81FE8F5E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11E0-A00F-47A2-ABA9-830FD1A0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4346-6CF5-438B-A65B-5CD99D10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CD6F0-C576-4552-830A-FFB43CDE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C3BF-F541-4A94-AFD9-D534E99F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2BE4-CEB9-462A-BA97-6F9738F8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BB93-8291-473C-A704-46102660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57A0-3685-46D5-BB3C-1A5EB23B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2C52-74B3-479B-9261-E10A4BEA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304F3-72EC-49D1-A938-9D2FAB52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3CF6B-B81D-4E92-83FC-D374C7B1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6DBD5-FD5E-4AB3-B022-0112031A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2FFB9-6BDC-4C95-8D6C-11F47562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AA15D-5483-4806-AF6E-AB5F77D9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AE06E-179D-4A32-AD80-0373F6E7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C1F99-F17B-4A66-944B-2290F493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B128-2273-454F-88F5-6E48D74F55B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3F56-4BAF-41F5-AF99-42F237949DF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cc"/>
                </a:solidFill>
                <a:latin typeface="Tahoma"/>
              </a:rPr>
              <a:t>Un Foro que trat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990720"/>
            <a:ext cx="853416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ograr que se incluyan dentro del Acuerdo Nacional, temas de Sociedad de la Información como instrumentos para el Desarrollo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ograr que las diversas tiendas políticas y sus candidatos para las elecciones del 2006 incluyan en sus planes de gobierno, políticas que permitan al sector privado y a la sociedad civil, aprovechar las oportunidades que ofrece la globalización y las tecnologías de la información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pulsar, a través de los gremios y organizaciones de base, la preparación de la micro y pequeña empresa para mejorar su nivel de competitividad y vincularse exitosamente con los mercados mundial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6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nvocar a todas las organizaciones del sector privado y la sociedad civil del país interesadas en aprovechar las oportunidades que ofrece la globalización y las tecnologías de la información a sumarse al esfuerzo que hoy hacemos público en el Consejo Privado para la Agenda Digit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-38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JES TEMATICOS (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30592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4.- Oferta Exportable (Oferta Digit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  <a:ea typeface="Arial"/>
              </a:rPr>
              <a:t>Todos los productos y servicios peruanos a los que se les pueda incorporar valor agregado intangible que los diferencie y los haga competitiv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5.- Marco Institu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Conjunto de propuestas sobre políticas público-privadas y acciones específicas dirigidas a influir en la sociedad, diseñando, utilizando y promueviendo los recursos que nos brinda las Tecnologías.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PARTICIPANT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7720" y="1523880"/>
            <a:ext cx="762012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unirá  Empresarios, líderes de organizaciones y autoridades del Estado de todas las regiones del Per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proximadamente 100,000 participantes virtuales, usando Videoconferencia, Chat, email y otros medios virtu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25a"/>
                </a:solidFill>
                <a:latin typeface="Tahoma"/>
              </a:rPr>
              <a:t>Actividades previas al For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55640" y="1412640"/>
            <a:ext cx="784872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ideo explicativo de la importancia de las TI para el país. (15 min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ferencias de Expertos, incidiendo en la importancia del uso de la tecnología. (1 hora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mostración del Uso de la Tecnología; correo electrónico, chat, videoconferencia, foro, streaming, otros medios. (30 min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eguntas de los participantes . (15 min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5715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Antesala  Tiempo estimado 2 H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andidatos a Invitar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619280" y="198900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URDES FL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LLANTA HUM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AN GARC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ENTIN PANI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x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132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25a"/>
                </a:solidFill>
                <a:latin typeface="Tahoma"/>
              </a:rPr>
              <a:t>MEDIOS DE COMUNICA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403280" y="2349360"/>
            <a:ext cx="64008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A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STAS DIGIT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BINAS DE 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95480" y="838080"/>
            <a:ext cx="3110040" cy="1216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SIDENTE DEL CP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2057400"/>
            <a:ext cx="0" cy="506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295280" y="2590920"/>
            <a:ext cx="6705720" cy="1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2590920"/>
            <a:ext cx="1800" cy="66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2590920"/>
            <a:ext cx="1800" cy="5061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2590920"/>
            <a:ext cx="1440" cy="1825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44080" y="4691160"/>
            <a:ext cx="1440" cy="76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228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Tahoma"/>
              </a:rPr>
              <a:t>EQUIPO DE TRABAJO PARA EL F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3124080"/>
            <a:ext cx="2362320" cy="709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19720"/>
            <a:ext cx="3795840" cy="1622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OTOCOLO Y DESARROLLO DEL EV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4343400"/>
            <a:ext cx="2881080" cy="106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ORO Y SEGU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3048120"/>
            <a:ext cx="3657600" cy="1014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ECNOLOGIA DEL EV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01000" y="2590920"/>
            <a:ext cx="0" cy="1752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132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f25a"/>
                </a:solidFill>
                <a:latin typeface="Tahoma"/>
              </a:rPr>
              <a:t>CRONOGRAMA DE ACTIVIDAD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685800"/>
            <a:ext cx="769644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Hasta el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de En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PAD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Formalización en Registros Públic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Membretes, Tarjeta,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older del Fo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signación de Centro de operación del ev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brir Cuenta Bancaria para el CP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MITE ORGANIZ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sarrollo de la información, Pagina Web, base de d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mpresión de invitaciones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(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Carta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uspici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Invitación para inaugurar y clausurar el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o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Invitados espe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Ponentes del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oro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04920"/>
            <a:ext cx="7848720" cy="62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Del  </a:t>
            </a: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0 </a:t>
            </a: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de Enero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al  </a:t>
            </a: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Febr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 Campaña de Marketing /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-mai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 Visitas a auspiciadores y empres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 Auspicios obteni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 Inscripciones realizadas, depósitos banc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 Administración de los recursos económ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 Inicio de campaña agresiva con medios loc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Del </a:t>
            </a: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15 de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Febrero</a:t>
            </a: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 al 10 de Mar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 Medición de result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 Confirmar participació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nferencia de Pren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14 de Marzo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mplementación del L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cc"/>
                </a:solidFill>
                <a:latin typeface="Tahoma"/>
              </a:rPr>
              <a:t>"Lo más emocionante del futuro, es que podemos inventarlo"  </a:t>
            </a:r>
            <a:br>
              <a:rPr sz="4200"/>
            </a:br>
            <a:r>
              <a:rPr b="0" lang="es-ES_tradnl" sz="4200" spc="-1" strike="noStrike">
                <a:solidFill>
                  <a:srgbClr val="ffffcc"/>
                </a:solidFill>
                <a:latin typeface="Tahoma"/>
              </a:rPr>
              <a:t>- Charles Handy </a:t>
            </a:r>
            <a:r>
              <a:rPr b="0" lang="es-MX" sz="4200" spc="-1" strike="noStrike">
                <a:solidFill>
                  <a:srgbClr val="ffffcc"/>
                </a:solidFill>
                <a:latin typeface="Tahoma"/>
              </a:rPr>
              <a:t>-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5638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Gra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971440"/>
            <a:ext cx="7391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Tahoma"/>
              </a:rPr>
              <a:t>PROPUESTAS </a:t>
            </a:r>
            <a:r>
              <a:rPr b="1" lang="es-ES_tradnl" sz="4000" spc="-1" strike="noStrike">
                <a:solidFill>
                  <a:srgbClr val="ffffff"/>
                </a:solidFill>
                <a:latin typeface="Tahoma"/>
              </a:rPr>
              <a:t>POLITICAS DE TECNOLOGIAS PARA EL DESARROLLO SOCI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533520"/>
            <a:ext cx="72392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l Perú debe aprovechar las oportunidades que ofrece las Tecnologías, para construir la Sociedad de la Información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F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Fecha: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Jueves 16 de Marzo del 2006</a:t>
            </a:r>
            <a:br>
              <a:rPr sz="3200"/>
            </a:b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Lugar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:  Sala Magna Facultad de Ingeniería - Universidad Ricardo Palma</a:t>
            </a:r>
            <a:br>
              <a:rPr sz="3200"/>
            </a:b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Organiza: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nsejo Privado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ara la Agenda Digital - CPAD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cc"/>
                </a:solidFill>
                <a:latin typeface="Tahoma"/>
              </a:rPr>
              <a:t>POR QUE :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 un mandato previsto en las bases del CP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6668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cc"/>
                </a:solidFill>
                <a:latin typeface="Tahoma"/>
              </a:rPr>
              <a:t>PARA QUE :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733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ra conocer las propuestas de los candidatos a la presid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cc"/>
                </a:solidFill>
                <a:latin typeface="Tahoma"/>
              </a:rPr>
              <a:t>BENEFICIO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formar a la comunidad nacional las propuestas de los candidatos respecto a las 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venir a las Empresas sobre las estrategias anunciadas por los candidat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osicionamiento del CPAD como ente promotor de tecnolog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mpartir la Visión que tiene CPAD en relación al aprovechamiento de las tecnologías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07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bf25a"/>
                </a:solidFill>
                <a:latin typeface="Tahoma"/>
              </a:rPr>
              <a:t>VISION</a:t>
            </a:r>
            <a:br>
              <a:rPr sz="36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Orientar a la sociedad e 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n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fluir en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l Gobierno sobre las oportunidades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que ofrece la tecnología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ara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genera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bienestar a los peruanos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352680"/>
            <a:ext cx="7702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ebf25a"/>
                </a:solidFill>
                <a:latin typeface="Tahoma"/>
              </a:rPr>
              <a:t>MISI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inir estrategias y planes concertado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 faciliten un desarrollo sostenible de las tecnologías y su aprovechami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Objetivos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ger, analizar e identificar la problemática del uso de las tecnologías  de la información como recurso de producción y estudio del ciudadan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ular y evaluar propuestas entre autoridades y lideres representativos del sector TI, sobre las tecnologías de la inform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EXPOSITOR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2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 principales candidatos a la Presidencia de la República; quienes presentaran sus propuestas sobre temas prioritarios para el desarrollo del país, centrándose en cinco ejes temáticos; respondiendo a un panel de expertos, y personas que sigan el evento vía Internet a nivel mundi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-38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JES TEMATICOS (1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240" y="838080"/>
            <a:ext cx="89154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1.-Educació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nvolucra tanto la educación como la capacitación de los recursos humanos nacion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2.-Infraestruc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Comprende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todos los elementos físicos necesarios para poder tener acceso a la informa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3.-Contenidos y potencialidad (Infoestructu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  <a:ea typeface="Arial"/>
              </a:rPr>
              <a:t>Son todos las fuentes de información y servicios digitales que se puedan aprovechar gracias a la infraestructura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7:14:32Z</dcterms:created>
  <dc:creator>USER01</dc:creator>
  <dc:description/>
  <dc:language>en-US</dc:language>
  <cp:lastModifiedBy>Ricoh</cp:lastModifiedBy>
  <dcterms:modified xsi:type="dcterms:W3CDTF">2006-02-14T16:43:56Z</dcterms:modified>
  <cp:revision>171</cp:revision>
  <dc:subject/>
  <dc:title>Diapositiva 1</dc:title>
</cp:coreProperties>
</file>